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7C5B-23B1-4D19-BF8F-40195890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065A-3CC1-46B4-87EC-C0DD96FD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BE7C-A00B-41DA-B7F0-61911428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0A01-A89F-4230-9B53-5BA3BC23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2082-C3D5-4260-9D31-05946884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72A5-997B-4729-A22C-E7A64FF6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465E-19A6-4EBB-962C-25775B06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26C6-7DD8-4187-8D75-40DE3ADC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9860-5CAD-460F-8D79-D502923B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A79A-C446-4A35-AC68-2DBEF709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47B-66D7-4FA8-A48F-B7C1672D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9AD5-AACB-47F9-9BB9-44C4F2B1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7CB6-1485-4ECC-9DC2-05668F9E2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odore-roosevelt.com/trr19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TR and the Trusts"/>
          <p:cNvPicPr/>
          <p:nvPr/>
        </p:nvPicPr>
        <p:blipFill>
          <a:blip r:embed="rId1"/>
          <a:stretch/>
        </p:blipFill>
        <p:spPr>
          <a:xfrm>
            <a:off x="1523880" y="0"/>
            <a:ext cx="612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2209680" y="0"/>
            <a:ext cx="4953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2247840" y="380880"/>
            <a:ext cx="46357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trmiddle2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7360" y="0"/>
            <a:ext cx="564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Walk Softly and Carry a Big Stick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tr"/>
          <p:cNvPicPr/>
          <p:nvPr/>
        </p:nvPicPr>
        <p:blipFill>
          <a:blip r:embed="rId1"/>
          <a:stretch/>
        </p:blipFill>
        <p:spPr>
          <a:xfrm>
            <a:off x="1066680" y="0"/>
            <a:ext cx="693432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5:03:57Z</dcterms:created>
  <dc:creator>Emily Dolci</dc:creator>
  <dc:description/>
  <dc:language>en-US</dc:language>
  <cp:lastModifiedBy>Dom Lambek</cp:lastModifiedBy>
  <dcterms:modified xsi:type="dcterms:W3CDTF">2015-01-06T20:56:07Z</dcterms:modified>
  <cp:revision>3</cp:revision>
  <dc:subject/>
  <dc:title>Slide 1</dc:title>
</cp:coreProperties>
</file>